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66EC-05B7-4865-AC16-DB58EDE17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AF7D-BC04-42CB-86AC-76A4D736A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0967-E86F-485D-85AE-366D5222C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CE19-82C7-4822-B7C2-74A964564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BBE4-180F-4D80-8BCC-2BEFB4429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E751-CBEB-4763-BC29-B8941E60B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E6CE-FACB-4DB5-9822-17DFEB10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48A0-EEA1-438F-A45A-3DBE8FB27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7D69-77EA-436B-A9BD-0A19F4ACA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3F67-4BFE-40FA-960F-11299C3A4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05FB-F98B-47D2-AA15-3F1C1BF77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A8E5-0D08-46B6-9D44-7D51D135E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7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601C4-D9F7-4A18-B307-82E76691210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xFAWR6hzZek" TargetMode="Externa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6gmP4nk0EOE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twoislandlight.blogspot.com/" TargetMode="External"/><Relationship Id="rId2" Type="http://schemas.openxmlformats.org/officeDocument/2006/relationships/hyperlink" Target="http://twoislandlight.blogspot.com/" TargetMode="External"/><Relationship Id="rId3" Type="http://schemas.openxmlformats.org/officeDocument/2006/relationships/hyperlink" Target="http://placefrancais.wikispaces.com/" TargetMode="External"/><Relationship Id="rId4" Type="http://schemas.openxmlformats.org/officeDocument/2006/relationships/hyperlink" Target="http://placefrancais.wikispaces.com/" TargetMode="External"/><Relationship Id="rId5" Type="http://schemas.openxmlformats.org/officeDocument/2006/relationships/hyperlink" Target="http://placefrancais.wikispaces.com/" TargetMode="External"/><Relationship Id="rId6" Type="http://schemas.openxmlformats.org/officeDocument/2006/relationships/hyperlink" Target="https://cambodia-project.wikispaces.com/" TargetMode="External"/><Relationship Id="rId7" Type="http://schemas.openxmlformats.org/officeDocument/2006/relationships/hyperlink" Target="https://cambodia-project.wikispaces.com/" TargetMode="External"/><Relationship Id="rId8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2361960" y="1600200"/>
            <a:ext cx="533160" cy="685800"/>
          </a:xfrm>
          <a:prstGeom prst="line">
            <a:avLst/>
          </a:prstGeom>
          <a:ln w="28440">
            <a:solidFill>
              <a:srgbClr val="96969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1523880" y="1600200"/>
            <a:ext cx="1371600" cy="0"/>
          </a:xfrm>
          <a:prstGeom prst="line">
            <a:avLst/>
          </a:prstGeom>
          <a:ln w="28440">
            <a:solidFill>
              <a:srgbClr val="96969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895480" y="1600200"/>
            <a:ext cx="4876920" cy="457200"/>
          </a:xfrm>
          <a:prstGeom prst="line">
            <a:avLst/>
          </a:prstGeom>
          <a:ln w="28440">
            <a:solidFill>
              <a:srgbClr val="96969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895480" y="1600200"/>
            <a:ext cx="5486400" cy="3048120"/>
          </a:xfrm>
          <a:prstGeom prst="line">
            <a:avLst/>
          </a:prstGeom>
          <a:ln w="28440">
            <a:solidFill>
              <a:srgbClr val="96969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95480" y="1600200"/>
            <a:ext cx="4267440" cy="1600200"/>
          </a:xfrm>
          <a:prstGeom prst="line">
            <a:avLst/>
          </a:prstGeom>
          <a:ln w="28440">
            <a:solidFill>
              <a:srgbClr val="96969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2666520" y="1600200"/>
            <a:ext cx="228600" cy="380880"/>
          </a:xfrm>
          <a:prstGeom prst="line">
            <a:avLst/>
          </a:prstGeom>
          <a:ln w="28440">
            <a:solidFill>
              <a:srgbClr val="96969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1600200"/>
            <a:ext cx="2057400" cy="76320"/>
          </a:xfrm>
          <a:prstGeom prst="line">
            <a:avLst/>
          </a:prstGeom>
          <a:ln w="28440">
            <a:solidFill>
              <a:srgbClr val="96969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1600200"/>
            <a:ext cx="228600" cy="3200400"/>
          </a:xfrm>
          <a:prstGeom prst="line">
            <a:avLst/>
          </a:prstGeom>
          <a:ln w="28440">
            <a:solidFill>
              <a:srgbClr val="96969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895480" y="1600200"/>
            <a:ext cx="4114800" cy="1066680"/>
          </a:xfrm>
          <a:prstGeom prst="line">
            <a:avLst/>
          </a:prstGeom>
          <a:ln w="28440">
            <a:solidFill>
              <a:srgbClr val="96969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609480" y="1600200"/>
            <a:ext cx="2286000" cy="1066680"/>
          </a:xfrm>
          <a:prstGeom prst="line">
            <a:avLst/>
          </a:prstGeom>
          <a:ln w="28440">
            <a:solidFill>
              <a:srgbClr val="96969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95480" y="1600200"/>
            <a:ext cx="1600200" cy="1600200"/>
          </a:xfrm>
          <a:prstGeom prst="line">
            <a:avLst/>
          </a:prstGeom>
          <a:ln w="28440">
            <a:solidFill>
              <a:srgbClr val="96969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2895480" y="1523880"/>
            <a:ext cx="1676520" cy="76320"/>
          </a:xfrm>
          <a:prstGeom prst="line">
            <a:avLst/>
          </a:prstGeom>
          <a:ln w="28440">
            <a:solidFill>
              <a:srgbClr val="96969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2895480" y="1294920"/>
            <a:ext cx="2895840" cy="304920"/>
          </a:xfrm>
          <a:prstGeom prst="line">
            <a:avLst/>
          </a:prstGeom>
          <a:ln w="28440">
            <a:solidFill>
              <a:srgbClr val="96969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05740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Taking it Global </a:t>
            </a:r>
            <a:br>
              <a:rPr sz="5400"/>
            </a:b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600200" y="3123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veloping Connections Between Communitie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95480" y="1600200"/>
            <a:ext cx="2590920" cy="533520"/>
          </a:xfrm>
          <a:prstGeom prst="line">
            <a:avLst/>
          </a:prstGeom>
          <a:ln w="28440">
            <a:solidFill>
              <a:srgbClr val="96969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2895480" y="1599840"/>
            <a:ext cx="4724640" cy="609480"/>
          </a:xfrm>
          <a:prstGeom prst="line">
            <a:avLst/>
          </a:prstGeom>
          <a:ln w="28440">
            <a:solidFill>
              <a:srgbClr val="96969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2285640" y="990360"/>
            <a:ext cx="609480" cy="609480"/>
          </a:xfrm>
          <a:prstGeom prst="line">
            <a:avLst/>
          </a:prstGeom>
          <a:ln w="28440">
            <a:solidFill>
              <a:srgbClr val="96969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y Mom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124080" y="1828800"/>
            <a:ext cx="276552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2666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at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4648320" cy="31035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SOKHOUEN.jpg"/>
          <p:cNvPicPr/>
          <p:nvPr/>
        </p:nvPicPr>
        <p:blipFill>
          <a:blip r:embed="rId2"/>
          <a:stretch/>
        </p:blipFill>
        <p:spPr>
          <a:xfrm>
            <a:off x="6477120" y="2514600"/>
            <a:ext cx="2143080" cy="2757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858000" y="5105520"/>
            <a:ext cx="198108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Sokhouen</a:t>
            </a:r>
            <a:br>
              <a:rPr sz="2800"/>
            </a:br>
            <a:r>
              <a:rPr b="0" lang="en-US" sz="1400" spc="-1" strike="noStrike">
                <a:solidFill>
                  <a:srgbClr val="b2b2b2"/>
                </a:solidFill>
                <a:latin typeface="Arial"/>
              </a:rPr>
              <a:t>(Cambodia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What do global collaborative projects offer?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295280" y="1600200"/>
            <a:ext cx="66294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ultiple literacies; digital, cultural, med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ross - cultural commun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ritical thin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ynthesis &amp; summ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formation literacy, research, validation and authentication of fa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egotiation and collabor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22096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Matt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219320" y="1371600"/>
            <a:ext cx="4647960" cy="31035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SOKHOUEN.jpg"/>
          <p:cNvPicPr/>
          <p:nvPr/>
        </p:nvPicPr>
        <p:blipFill>
          <a:blip r:embed="rId2"/>
          <a:stretch/>
        </p:blipFill>
        <p:spPr>
          <a:xfrm>
            <a:off x="6477120" y="2666880"/>
            <a:ext cx="2143080" cy="27576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0" y="5105520"/>
            <a:ext cx="198108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Sokhou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47920" y="5181480"/>
            <a:ext cx="451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o be human toge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7543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Cause these guys will control conversations if our young people don’t… 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4286520" cy="35434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553080" y="3124080"/>
            <a:ext cx="2048040" cy="25909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SOKHOUEN.jpg"/>
          <p:cNvPicPr/>
          <p:nvPr/>
        </p:nvPicPr>
        <p:blipFill>
          <a:blip r:embed="rId3"/>
          <a:stretch/>
        </p:blipFill>
        <p:spPr>
          <a:xfrm>
            <a:off x="3809880" y="4419720"/>
            <a:ext cx="1540080" cy="19810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 flipV="1">
            <a:off x="5562720" y="4723920"/>
            <a:ext cx="685800" cy="22860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7620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How are on-line collaborative projects easier?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1828800"/>
            <a:ext cx="77724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eb as an operating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read / write web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- web 2.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artnering opportuniti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7620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Web 2.0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828800"/>
            <a:ext cx="77724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eb-based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veryone can be a content produc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hift in information production and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ave we seen other shifts of this magnitude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736080" y="533412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The Bo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1907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Available Web 2.0 Tools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981080" y="1295280"/>
            <a:ext cx="62485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ik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lo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oogle do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odca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ebcasts, skype, 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creensh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vide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37335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Making The Shift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981080" y="1371600"/>
            <a:ext cx="61722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e know society is changing fa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chools…? (not so fast?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hallenge - to develop students with 21st century literacy ski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te, assess, evalu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ipulate, synthesi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e, communic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thics, citizenshi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7800" y="6248520"/>
            <a:ext cx="14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The Mach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1981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Standards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00200" y="1447920"/>
            <a:ext cx="617220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tate / provincial / national outco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es with jurisdi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tch outcomes across subject are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oss-curricular benef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etting here from there…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981080" y="1600200"/>
            <a:ext cx="5181840" cy="38768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430800" y="5562720"/>
            <a:ext cx="232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r Can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1981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Literacy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600200" y="1447920"/>
            <a:ext cx="61722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3 R’s…become the 4 E’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osing knowled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loying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ressing ideas compelling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th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6095880"/>
            <a:ext cx="33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redit: David Warli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3429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ISTE Standards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600200" y="1447920"/>
            <a:ext cx="6172200" cy="39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ew NETS refre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unication &amp; collabo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arch / information retriev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itical thinking, problem solv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digital citizenship (ethic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3429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Obstacles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2120" y="2057400"/>
            <a:ext cx="3809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echnology ac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echnology know-h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ime shif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ncommitted teac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648320" y="304920"/>
            <a:ext cx="4033800" cy="28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019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What Do These Projects Look Like?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981080" y="1676520"/>
            <a:ext cx="6172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ithin class / scho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ther local part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ational / glob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3886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oject Examples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600200" y="1828800"/>
            <a:ext cx="6172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Flu Shot / Two Island L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Places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hlinkClick r:id="rId5"/>
              </a:rPr>
              <a:t>Franca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hlinkClick r:id="rId6"/>
              </a:rPr>
              <a:t>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hlinkClick r:id="rId7"/>
              </a:rPr>
              <a:t>Connect with Cambod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lie &amp; Charline Math Fra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3886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oject Examples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1828800"/>
            <a:ext cx="6172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01 Flat World T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at Classroom Pro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rizon Pro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ow to find a partner or project? 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6172200" cy="40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sonal relationships ----&gt;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fessional relationshi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oggers - “word of mouth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cky Davis -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flatclassroom project /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horizon pro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y Burrell -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1001 flat world 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ow to find a partner or project? 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2743200" cy="1441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5029200" y="1241280"/>
            <a:ext cx="2971800" cy="11210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7238880" y="4572000"/>
            <a:ext cx="1524240" cy="12096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685800" y="464832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5"/>
          <a:stretch/>
        </p:blipFill>
        <p:spPr>
          <a:xfrm>
            <a:off x="4419720" y="3352680"/>
            <a:ext cx="2219040" cy="4986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6"/>
          <a:stretch/>
        </p:blipFill>
        <p:spPr>
          <a:xfrm>
            <a:off x="3429000" y="4724280"/>
            <a:ext cx="268920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cknowledgements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2057400"/>
            <a:ext cx="6781680" cy="36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haron Peter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wer Canada College, Montre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ay Burrel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orea International School, Seou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Vicky Dav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stwood School, Camilla, G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avid Warlic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ndmark Project, Raleigh, N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515320" y="2209680"/>
            <a:ext cx="393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mments &amp; Ques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35053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oday’s Objectives: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952880" y="457200"/>
            <a:ext cx="3992760" cy="26622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85800" y="2438280"/>
            <a:ext cx="4057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Why Global Collaborative Project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440" y="609480"/>
            <a:ext cx="324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llaborate / Sh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38280" y="1523880"/>
            <a:ext cx="60613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 into small group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en minutes…brainstorm how you could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velop a framework for a global project to connect and preserve native culture and / or language and develop greater understanding of aboriginal issues / challenges / cul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velop a way that a business or government could utilize technology to connect with other businesses or government to create strong partnerships or work collaboratively.  How can they support each others goals and objectives?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35053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oday’s Objectives: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952880" y="457200"/>
            <a:ext cx="3992760" cy="26622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85800" y="2438280"/>
            <a:ext cx="405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How to begi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35053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oday’s Objectives: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952880" y="457200"/>
            <a:ext cx="3992760" cy="26622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85800" y="24382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What tools can I us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35053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oday’s Objectives: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952880" y="457200"/>
            <a:ext cx="3992760" cy="26622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85800" y="243828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Overcoming Obsta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35053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oday’s Objectives: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952880" y="457200"/>
            <a:ext cx="3992760" cy="26622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85800" y="2438280"/>
            <a:ext cx="405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What can these projects look lik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35053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oday’s Objectives: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952880" y="457200"/>
            <a:ext cx="3992760" cy="2662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2438280"/>
            <a:ext cx="405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Where can we get connect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09680" y="2209320"/>
            <a:ext cx="50292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Why Global Collaborative Projects?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2T15:37:53Z</dcterms:created>
  <dc:creator>nbdoe</dc:creator>
  <dc:description/>
  <dc:language>en-US</dc:language>
  <cp:lastModifiedBy>Gary Gallant</cp:lastModifiedBy>
  <dcterms:modified xsi:type="dcterms:W3CDTF">2008-04-09T19:39:43Z</dcterms:modified>
  <cp:revision>18</cp:revision>
  <dc:subject/>
  <dc:title>Taking it Global  </dc:title>
</cp:coreProperties>
</file>